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6031-A3F0-4913-BBC9-E49365FF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E7D-68E1-4B52-99A8-53B60348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71D59-24C7-4B10-BAF6-FFDFBD5F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353C5-74F3-4376-8994-D1C621C0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7CF38-6074-48B1-AC2E-E38C52D0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3AF42-3BAD-4C9C-AA55-BA0348BF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A5D63-BEBA-49C4-95B0-FA184871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AC95C-66E4-489C-8CAE-78462870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184CF-FA60-4A73-B118-4C654BC6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295F1-5B03-4035-8A9A-EF1DE960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AAA4E-2FC8-4526-A69D-1EFD5448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967B6-10D4-43BE-8C54-42AFB8D0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277-E9D3-477E-B576-E57E2DCF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B96E8-D929-4557-8635-FCFE759F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F7172-6C9E-4617-8DDE-EC8240B8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A4526-A7A1-4FA8-8ABF-94763D7E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78230-A746-4A79-BC4C-441E3BE3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5A2B4-1E21-4D7D-A026-43EFD2E3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EE257-E266-4282-9A85-D070B0F6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90AC1-02BF-4DB4-B167-47322CAD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9768B-8487-4621-B79E-32395A73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327BF-8625-47CC-BB2E-94CD58A4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53424-5A4C-4DEA-A0AA-B54E9281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16E-A810-40B7-AAD8-6D827744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87A71-D410-43A1-A883-21D8ED3F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6413A-09F1-4D33-9F9E-92C47133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A163B-8B3F-4B86-9ABA-9BD3DAB4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9F29F-2005-477B-86EB-B3D29863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0638B-63A8-4AD5-B18F-0052AA21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96C53-8E16-42F8-9DAC-5CA9A500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DF22C-09B3-4AD4-9417-9D0B6D84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C8D35-B1D0-4D3C-929E-29896579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8ED5B-8D05-4EAA-A19D-03B46983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E4655-BC94-41AE-96EC-DD0461CB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2157-F36F-4D52-856C-8CA3AB45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A46D8-1B8A-4DD7-8FDB-37A62189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AFD85-C408-454B-B960-18F0AB2A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8E066-BE1D-48C9-A1B6-019F8A80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DAD2D-EC2A-42F3-A26F-0A7170D5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0EE30-6E3A-4AAB-B928-A99EE49B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E3F15-51A8-43DA-BCCA-11B1E8B0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2D7A9-AFE2-4F82-9079-5313C827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95A20-B30F-4D08-A36F-7F76C922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BF374-491D-4229-A326-0A640A5C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BF48A-4C66-4642-9A2B-7D00C9C6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EA0D-1720-43B4-85DE-5C33206B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4D9DC-36BB-4976-81F9-4992DB1C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FCA33-C3B0-4140-BCDE-2E2B54DF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5B6E1-5381-45D7-A873-268D9F7B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5CB52-F7BD-47C3-AACE-007CF5E3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F8373-100C-4F83-956E-779BADF2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2870D-BD8E-44CE-83BD-4BBCAC2D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9BECC-F243-40D0-95D4-42D29F0E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E0BE2-0EB2-4C91-A44A-14FE0B49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AFA9D-779F-4BDE-AAED-03C4A8B0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CADDD-8F3B-49F4-A81B-1880286E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85D1-31D9-41A7-B9B5-BCE6B8CF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98C912-1432-46E2-BBA0-A8D73826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35F4A9-C612-4ABE-9A5B-8C14BA1D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4E75B-BA1E-45EA-9556-74E3BB50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9397B-9417-4DFF-92E4-65EA5A71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BFCD51-B458-4AA2-BA07-5B37B3FF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F795BD-245D-4EAB-A7F9-CDE6F93F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FCF12-D4F4-4B80-8C89-4D79BEEC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D366E1-64A0-4CF3-AA01-3E423900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7EE4C6-E95F-4DB5-8D5F-57BB7FFB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A68F2E-28A2-4E03-B3BB-ED5A6241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64CB-28B0-4C84-8BB4-FACEF335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14051-9F23-4488-83CC-7D4FA2E9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62DBE7-67EC-4B7B-97E4-74D8E448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84425-1D32-4E56-AF80-574DE751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8E10A2-16FB-46ED-B2C2-3F324D7D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AAA940-F3CD-4372-9E66-CFE1D57A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A2930-6822-48FC-8D53-67B34A0D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50216-CFA5-4975-A352-BB567D93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B91167-C772-4D11-A9F5-7B19D842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B05CB-7621-4822-B3A9-9B2429FC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F8F6E-D582-41E5-8FB6-1636018B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8C67-47C1-461E-980F-33E9B494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EF9E3F-EBEE-42E0-979F-FAD69994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D3A2F8-6929-43F4-8877-F2AEBF76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C431D-335B-4F75-82C5-67F93586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4909A5-D6EA-4B24-842C-D2828006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7DB6B4-A40B-4995-B8C1-3B7A252B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3DD337-14D4-4A75-9272-133B0811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4C3DEC-58D4-4607-A155-03C9D117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68DCC3-72EC-401A-90ED-30DAE429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DFB97-DCDC-47E3-8831-3E3E9680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57F94C-F2AE-4AB0-B40E-F5C92849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D467-18ED-4F15-9FCA-0E00377A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061B2F-A050-4790-A700-AEBB9020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FCCC40-88F1-4E3B-A0A8-9DA708AC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2BA68B-FED9-4BDF-89A8-BCE0FF08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2D9A53-22B8-440A-94AE-6057ECA9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471860-0F15-4400-9EDE-6A333B85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A85450-9548-464B-B77D-BEBF22D9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6673AB-43DE-44CA-8872-6CA8DECD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12F078-72E5-4A15-912C-8317504F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671838-7AE2-4F6E-8E2C-CDAA4CFA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E523A8-D781-43CF-9A88-DBB2C3BA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5C97-1121-4AE4-BD40-4EA3B6E5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BF85F9-5BC4-45DB-B76E-878E4793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FCF6FB-E8C4-4518-9A79-428711E6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84155F-A778-45FE-8186-B9280AFE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0CE845-D2A8-4260-A764-C7DCEBE2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E09C0B-18E1-4AE8-9A57-A02F0F70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39E186-0AE5-47CE-B7E4-2AC7AD07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B59751-57CB-496F-88E5-8DCBF099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40EAB4-C268-42BD-81E5-9DFF1848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8F9722-8015-4F71-A1D8-4F135872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7F53EA-784D-4FA6-B289-8955970B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7B2E-ACBF-4C69-8CC4-7592F335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CD5A-76EB-41EE-973C-3E6BFD7D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1C9A76-D807-4EB5-AF4C-A3EC472E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25405E-3E37-4F5C-A94C-95DE3011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BF0B3B-F669-4690-956F-C132477E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9B15CD-C033-4188-BE50-4E825A03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C4A7F1-1FE9-4BCB-805C-CD3BFA06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505795-0217-4805-8552-5D47EC8C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9C50C2-ACC6-4B00-9C49-E605B989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7C75DA-9FD7-45DC-9779-3072F9CC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72A680-D972-4DE6-97FA-98AEC20A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CE85A0-0232-4CCE-9369-C1FB7228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82BE-1574-446F-A167-E80DE715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893E7B-DEAF-4A53-9B73-DB761C0E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5741F9-9DD0-4715-B4E5-DBBD9677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552FF1-743C-4032-BA4F-ABAD5FA9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C7C1B3-1757-4CCE-9FFF-C55DCACD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13727-9AB6-442F-AACB-D4D57ED1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FE5BBD-7504-45F3-AE8D-5AA4EE87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DEC2F3-8D61-4B6F-A9D1-AAA80A4E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4404FF-6088-4CA6-B3B6-6D14416D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69C793-C879-40B7-9DBE-9A73C6C5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5BE420-5087-4DC0-A639-2DDB24D7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E2D1-F5CF-4450-AEDD-11C9C4E4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046939-EB1C-4843-A05E-127EB61E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FC747C-9C09-4B5C-8383-C225F97C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0A21C7-192B-4DA1-814B-BE875932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2F1BAD-0368-451C-B906-C3C162EC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78163D-713D-4890-B219-35C15278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856B7C-B0E0-4C17-BA05-26A8FE97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FF28E7-86DF-43A8-AD03-71613D3D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8185D2-B607-40D8-89EF-AB90A622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DAB96-FFA0-4402-93B3-43A6161C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2A5CDE-23A0-443E-A754-5A421CA6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0976-E9BC-4B45-BAAF-F8E70D8D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87CE4C-9E76-4934-9CAC-CAACB1D1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9E0D3D-5B09-4395-B8B5-F183E413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D8592D-7851-4F83-BBD3-AAD20329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36EB06-759A-478E-809C-58787566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704872-9BB8-4EFC-BF28-47F313B9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50B8C7-07E9-4125-AF37-83559D38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27CE1E-3E2C-4233-BFFE-EBFCC702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1D28F5-9F14-4142-9C06-40512CE9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51B9BE-FDBB-4B67-B69C-1120CCEA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D7AEFF-FBAE-44CA-8899-A3D5BE92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9442-5233-4598-B3DB-B5DAA71C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578FA1-51B1-4BC3-ACC1-56047D4E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F79894-2E20-457F-94EC-54DD52D0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05151F-B94B-4435-93F7-E5CF41E6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C0E546-CD9F-401F-A2BB-FA244CCA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DC9B75-D52D-4DCF-B8B0-689E6475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F364AE-A132-4E30-99F9-31970D90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CBF5C7-92D5-4095-A8EC-EEE917F1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F0087E-1CF0-4B8F-A74F-F7E452E1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DF3E04-6B55-480B-A2D4-D04964E2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3D9DAB-3D58-4437-9B5E-E93B45D8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8A451-273D-477F-B236-05ACC3B3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A60778-F660-4543-9C67-50D6A00B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A2304C-F4CC-41E4-9CC3-E231A2AC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9C95A1-BE41-4F91-AF0A-1312571F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A81DA-678B-4105-8C62-C3BF0014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B0AC4-0EB5-4F2A-9F69-5CCCD3FD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5BBE2-2E74-4788-9EC4-AF273E17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6B3F0-D619-4A8B-9712-CADD0AF7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7CC-D1F6-420F-A06F-EBCD3021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02359-6FDF-4DCF-BC36-7BE54406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B6FEE-48A8-4B55-B336-07E027CD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11D6-EFCA-4BF0-89EE-7C00CCF7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4FD1E-A1D2-4399-BDAD-4B114460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35453-EAE3-4DB7-867A-2A19537F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F2081-FB5B-4C51-A53A-B8245153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02BA9-9076-45FC-9D3C-2A32A73C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49022-E989-46AF-B2C1-DBA1A580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7B940-691D-41A4-8A1F-8156FD9F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D2F5B-B8D5-4802-B4AF-C48C95FC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C75-0457-475A-A270-FBF0E0E2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E0DE9-9BCE-4C13-AD6F-DC36090B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FEC3D-0419-4B1E-AD23-A2F3C6B6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8B4C6-C56E-4925-A390-F93A3743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D9E0D-35D4-4BF5-89A0-95D13E3D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1E8CA-9DF3-4C74-9FD0-4F870E59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7C144-4C61-4906-9697-F13ED902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85D40-D762-40C0-A6C7-EF1231B0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F4B8A-1CDD-47D9-8ECE-B14827CF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78D6B-9A77-4CD0-8974-176C4F25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67D83-ADFF-448F-967D-56D2D3FA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D99-3621-47FC-954C-3B392297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FCA56-7978-45CF-AB1C-B3CC8F1D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9465B-0E77-4D5D-A74F-F2C260DA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0B90E-6B55-46FE-9CDB-CB27F5B8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2AF4E-774F-4198-944B-B327787E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92D01-EACF-4284-BAEA-E272DCA8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3230E-40E2-44B0-B1DB-BEC00117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46A17-6F95-44DD-A5AE-67B517E8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EA768-A2CD-45D8-BFBF-B8F9105A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BD469-E798-47C2-BA5D-550F10F9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92097-D819-487C-A555-0AA46FE7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C895-B06A-48CD-839C-3BE0A41C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58B7B-9C82-41C9-8029-E3E7D515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0B486-739C-44FE-9EB9-E3BB094E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D9D49-4C01-4BBC-84E6-F833DDF7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B4704-1C48-44C2-AF23-CAF74D56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69AF2-B70A-4576-A7F8-1CA9BE3F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8F8BA-4ABC-4E61-8FF6-808CF383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316E2-39EB-4834-9FED-85E733C3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6D5F2-3DB8-4C70-8502-91E0501E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0A333-DDF3-4675-BAA8-629253D8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238C9-75E7-4043-B744-AEB3C058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E16-5996-42E2-B6A6-0BFD6CCF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AA4D8-48B5-4ED9-A263-6F732862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734F9-929A-4745-87FB-EC184038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6B06C-17B1-4E62-B367-0AA0B332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B1157-0C08-4C2C-A872-B5218B09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BDDAC-FE9E-4541-BF28-4E5E886B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8D72A-1091-4704-825D-EA947558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91513-4FEF-4112-869A-156FDF80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C2C11-3292-4A75-97AB-CDF207C8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B189E-88C5-4318-86BB-2593A5E3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3581E-89AA-42A1-B6E6-B294B229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8B6-D51E-41E1-8F52-5B33320C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908D3-D515-4DA8-A350-17706D87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192D0-982B-49A1-A0D9-D65B14DF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AE8D5-C179-45FA-8CEC-7EEC8875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FB7DA-A95A-4D1C-A8A9-4D8F83EA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498D0-0712-4361-8D4B-79859EB3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BBE18-20A4-454D-AE74-1C8A8772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C4A83-EF4D-4A23-9276-5C1BF132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0DB74-44B8-4CA6-8DCE-E8BABE4B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B725D-B78C-4BD5-858F-F5E40871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7485B-CC9B-4083-9D42-AC13E011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850-94CB-4AF2-919D-406A9192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2DD4C-9718-41E5-B0D7-5730078A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F58EA-372E-4D07-8BBC-5794FBDB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7BFDA-471E-483E-AA92-2CB0D80C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57563-CC78-4B61-AB0F-668A8C51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CEF07-390C-4B28-A5C6-EDB75020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E1DE2-6781-48B1-9C97-73C14D48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38BAB-AA5B-4842-957F-33A2F17A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5B854-3E92-4C67-89CB-19C1F5FD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41FD5-07C7-4E36-8D43-66396B74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72A4B-1D0E-4EDC-B615-7F01600B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3063-B455-4CA2-9486-88AAC1898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01FE-F0FA-4EC4-A509-4BD39A581F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BAD3-C7CB-4087-AA98-E876276103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DEC4-C4C6-450D-9279-0C52010701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17A1-9774-43F1-9CCE-7F94280A88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05AB-FC76-4759-95D4-DFF4FCABF1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8E64-1446-4EAD-8064-84022012A0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8015-DD75-4747-8EB0-260F1AE58D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B7B6-0278-495D-A09B-208FCFE996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C896-6634-4587-BFB5-B26504FBE5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0B80-6462-4A5F-8D41-61D40504BF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BD08-9A16-4944-B70B-5B7A0E6A64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7678-93BB-43E2-A4AA-50E2A1B999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B068-CF4A-4B99-A800-A33D13B08E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A1FD-50E0-4B9E-B6D9-6C0F0B91C0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2BE1-F7DA-40B4-8628-27F072DC02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C04C-B8DB-4685-BCE1-6CB3F43D48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A555-3BC4-4768-AB8B-828EB904F8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5E13-6819-4D77-B218-00FB25961C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F244-85A6-4B7A-890F-50BD72C2C4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66A1-9B94-402A-BE31-467E3134E1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A55B-CEFF-4484-AFE4-63BF8B9627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D51A-AE58-4BCD-AF69-57B377481B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748C-D59F-47E9-BB00-260FD74C81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D1D2-06B5-4393-A0A3-8BD8454D51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CE39-ABAA-4BA0-91B6-CE0C58D1BF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219D-C26F-4737-A236-2B3E4A809E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9AC3-05FF-4873-A546-98EB01DCD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4CC7-D12B-4A13-A72E-8E1A5A9438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091C-6298-49DF-B6E3-79FC52637B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E371-F628-498E-A2F6-5C33C3B77A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E4A4-A3AB-4425-9C2A-8655A405E3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3504-DD27-4161-A006-23212D70CA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4E70-0A88-4283-B5FE-53EA676EFB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021B-BF48-4056-8A6A-F6725138D8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D5D6-8B4A-4681-B3C6-5619F74FF1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2BF3-90C5-435F-AFFE-F3F98C5953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E142-1494-4BD4-B9C3-FE003979F3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B1CA-CC95-4C17-947F-9BDC381209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9DF4-CA45-4B34-AC13-97EDAB8D56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2" descr=""/>
          <p:cNvPicPr/>
          <p:nvPr/>
        </p:nvPicPr>
        <p:blipFill>
          <a:blip r:embed="rId1"/>
          <a:stretch/>
        </p:blipFill>
        <p:spPr>
          <a:xfrm>
            <a:off x="1533600" y="2967120"/>
            <a:ext cx="60768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4" descr=""/>
          <p:cNvPicPr/>
          <p:nvPr/>
        </p:nvPicPr>
        <p:blipFill>
          <a:blip r:embed="rId1"/>
          <a:stretch/>
        </p:blipFill>
        <p:spPr>
          <a:xfrm>
            <a:off x="366840" y="1111320"/>
            <a:ext cx="8410320" cy="49816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3" descr=""/>
          <p:cNvPicPr/>
          <p:nvPr/>
        </p:nvPicPr>
        <p:blipFill>
          <a:blip r:embed="rId2"/>
          <a:stretch/>
        </p:blipFill>
        <p:spPr>
          <a:xfrm>
            <a:off x="7548480" y="3738600"/>
            <a:ext cx="1190880" cy="5144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4275000" y="4548240"/>
            <a:ext cx="8766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2" descr=""/>
          <p:cNvPicPr/>
          <p:nvPr/>
        </p:nvPicPr>
        <p:blipFill>
          <a:blip r:embed="rId1"/>
          <a:stretch/>
        </p:blipFill>
        <p:spPr>
          <a:xfrm>
            <a:off x="347760" y="1209600"/>
            <a:ext cx="8448480" cy="44388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3" descr=""/>
          <p:cNvPicPr/>
          <p:nvPr/>
        </p:nvPicPr>
        <p:blipFill>
          <a:blip r:embed="rId2"/>
          <a:stretch/>
        </p:blipFill>
        <p:spPr>
          <a:xfrm>
            <a:off x="5297400" y="1225440"/>
            <a:ext cx="857160" cy="6001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3"/>
          <a:stretch/>
        </p:blipFill>
        <p:spPr>
          <a:xfrm>
            <a:off x="7191360" y="2095560"/>
            <a:ext cx="1123920" cy="7048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5" descr=""/>
          <p:cNvPicPr/>
          <p:nvPr/>
        </p:nvPicPr>
        <p:blipFill>
          <a:blip r:embed="rId4"/>
          <a:stretch/>
        </p:blipFill>
        <p:spPr>
          <a:xfrm>
            <a:off x="1452600" y="4834080"/>
            <a:ext cx="99072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Picture 2" descr=""/>
          <p:cNvPicPr/>
          <p:nvPr/>
        </p:nvPicPr>
        <p:blipFill>
          <a:blip r:embed="rId1"/>
          <a:stretch/>
        </p:blipFill>
        <p:spPr>
          <a:xfrm>
            <a:off x="385920" y="1066680"/>
            <a:ext cx="8372160" cy="5315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2"/>
          <a:stretch/>
        </p:blipFill>
        <p:spPr>
          <a:xfrm>
            <a:off x="1500120" y="2023920"/>
            <a:ext cx="1071720" cy="500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3"/>
          <a:stretch/>
        </p:blipFill>
        <p:spPr>
          <a:xfrm>
            <a:off x="5334120" y="2023920"/>
            <a:ext cx="1785960" cy="500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4"/>
          <a:stretch/>
        </p:blipFill>
        <p:spPr>
          <a:xfrm>
            <a:off x="1500120" y="2928960"/>
            <a:ext cx="1071720" cy="500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5"/>
          <a:stretch/>
        </p:blipFill>
        <p:spPr>
          <a:xfrm>
            <a:off x="5334120" y="2917800"/>
            <a:ext cx="1357200" cy="498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6"/>
          <a:stretch/>
        </p:blipFill>
        <p:spPr>
          <a:xfrm>
            <a:off x="1571760" y="3786120"/>
            <a:ext cx="1857240" cy="500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7"/>
          <a:stretch/>
        </p:blipFill>
        <p:spPr>
          <a:xfrm>
            <a:off x="5226120" y="3809880"/>
            <a:ext cx="10713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271440" y="1160640"/>
            <a:ext cx="8601120" cy="50767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4" descr=""/>
          <p:cNvPicPr/>
          <p:nvPr/>
        </p:nvPicPr>
        <p:blipFill>
          <a:blip r:embed="rId2"/>
          <a:stretch/>
        </p:blipFill>
        <p:spPr>
          <a:xfrm>
            <a:off x="1392120" y="2048040"/>
            <a:ext cx="1071720" cy="500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4" descr=""/>
          <p:cNvPicPr/>
          <p:nvPr/>
        </p:nvPicPr>
        <p:blipFill>
          <a:blip r:embed="rId3"/>
          <a:stretch/>
        </p:blipFill>
        <p:spPr>
          <a:xfrm>
            <a:off x="1370160" y="2940120"/>
            <a:ext cx="630000" cy="500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4" descr=""/>
          <p:cNvPicPr/>
          <p:nvPr/>
        </p:nvPicPr>
        <p:blipFill>
          <a:blip r:embed="rId4"/>
          <a:stretch/>
        </p:blipFill>
        <p:spPr>
          <a:xfrm>
            <a:off x="2214720" y="3821040"/>
            <a:ext cx="1071360" cy="500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5"/>
          <a:stretch/>
        </p:blipFill>
        <p:spPr>
          <a:xfrm>
            <a:off x="4214880" y="3857760"/>
            <a:ext cx="1071360" cy="500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6"/>
          <a:stretch/>
        </p:blipFill>
        <p:spPr>
          <a:xfrm>
            <a:off x="1309680" y="4738680"/>
            <a:ext cx="1071720" cy="500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"/>
          <p:cNvPicPr/>
          <p:nvPr/>
        </p:nvPicPr>
        <p:blipFill>
          <a:blip r:embed="rId7"/>
          <a:stretch/>
        </p:blipFill>
        <p:spPr>
          <a:xfrm>
            <a:off x="7429680" y="4727520"/>
            <a:ext cx="1071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2" descr=""/>
          <p:cNvPicPr/>
          <p:nvPr/>
        </p:nvPicPr>
        <p:blipFill>
          <a:blip r:embed="rId1"/>
          <a:stretch/>
        </p:blipFill>
        <p:spPr>
          <a:xfrm>
            <a:off x="324000" y="782640"/>
            <a:ext cx="7677000" cy="16383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" descr=""/>
          <p:cNvPicPr/>
          <p:nvPr/>
        </p:nvPicPr>
        <p:blipFill>
          <a:blip r:embed="rId2"/>
          <a:stretch/>
        </p:blipFill>
        <p:spPr>
          <a:xfrm>
            <a:off x="530280" y="2722680"/>
            <a:ext cx="8362800" cy="4019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4" descr=""/>
          <p:cNvPicPr/>
          <p:nvPr/>
        </p:nvPicPr>
        <p:blipFill>
          <a:blip r:embed="rId3"/>
          <a:stretch/>
        </p:blipFill>
        <p:spPr>
          <a:xfrm>
            <a:off x="2214720" y="4452840"/>
            <a:ext cx="3071520" cy="500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"/>
          <p:cNvPicPr/>
          <p:nvPr/>
        </p:nvPicPr>
        <p:blipFill>
          <a:blip r:embed="rId4"/>
          <a:stretch/>
        </p:blipFill>
        <p:spPr>
          <a:xfrm>
            <a:off x="1500120" y="6238800"/>
            <a:ext cx="1428840" cy="500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"/>
          <p:cNvPicPr/>
          <p:nvPr/>
        </p:nvPicPr>
        <p:blipFill>
          <a:blip r:embed="rId5"/>
          <a:stretch/>
        </p:blipFill>
        <p:spPr>
          <a:xfrm>
            <a:off x="4500720" y="622620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"/>
          <p:cNvPicPr/>
          <p:nvPr/>
        </p:nvPicPr>
        <p:blipFill>
          <a:blip r:embed="rId6"/>
          <a:stretch/>
        </p:blipFill>
        <p:spPr>
          <a:xfrm>
            <a:off x="7797960" y="6286680"/>
            <a:ext cx="10713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3" descr=""/>
          <p:cNvPicPr/>
          <p:nvPr/>
        </p:nvPicPr>
        <p:blipFill>
          <a:blip r:embed="rId1"/>
          <a:stretch/>
        </p:blipFill>
        <p:spPr>
          <a:xfrm>
            <a:off x="328680" y="836640"/>
            <a:ext cx="8486640" cy="5762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2"/>
          <a:stretch/>
        </p:blipFill>
        <p:spPr>
          <a:xfrm>
            <a:off x="558720" y="857160"/>
            <a:ext cx="10717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Picture 2" descr=""/>
          <p:cNvPicPr/>
          <p:nvPr/>
        </p:nvPicPr>
        <p:blipFill>
          <a:blip r:embed="rId1"/>
          <a:stretch/>
        </p:blipFill>
        <p:spPr>
          <a:xfrm>
            <a:off x="376200" y="836640"/>
            <a:ext cx="8391600" cy="5838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4" descr=""/>
          <p:cNvPicPr/>
          <p:nvPr/>
        </p:nvPicPr>
        <p:blipFill>
          <a:blip r:embed="rId2"/>
          <a:stretch/>
        </p:blipFill>
        <p:spPr>
          <a:xfrm>
            <a:off x="2857680" y="4357800"/>
            <a:ext cx="1071360" cy="500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"/>
          <p:cNvPicPr/>
          <p:nvPr/>
        </p:nvPicPr>
        <p:blipFill>
          <a:blip r:embed="rId3"/>
          <a:stretch/>
        </p:blipFill>
        <p:spPr>
          <a:xfrm>
            <a:off x="7000920" y="4357800"/>
            <a:ext cx="1071360" cy="500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4" descr=""/>
          <p:cNvPicPr/>
          <p:nvPr/>
        </p:nvPicPr>
        <p:blipFill>
          <a:blip r:embed="rId4"/>
          <a:stretch/>
        </p:blipFill>
        <p:spPr>
          <a:xfrm>
            <a:off x="1143000" y="6072120"/>
            <a:ext cx="68580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2" descr=""/>
          <p:cNvPicPr/>
          <p:nvPr/>
        </p:nvPicPr>
        <p:blipFill>
          <a:blip r:embed="rId1"/>
          <a:stretch/>
        </p:blipFill>
        <p:spPr>
          <a:xfrm>
            <a:off x="271440" y="1309680"/>
            <a:ext cx="8601120" cy="42386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4" descr=""/>
          <p:cNvPicPr/>
          <p:nvPr/>
        </p:nvPicPr>
        <p:blipFill>
          <a:blip r:embed="rId2"/>
          <a:stretch/>
        </p:blipFill>
        <p:spPr>
          <a:xfrm>
            <a:off x="2238480" y="2297160"/>
            <a:ext cx="1071360" cy="5000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4" descr=""/>
          <p:cNvPicPr/>
          <p:nvPr/>
        </p:nvPicPr>
        <p:blipFill>
          <a:blip r:embed="rId3"/>
          <a:stretch/>
        </p:blipFill>
        <p:spPr>
          <a:xfrm>
            <a:off x="5106960" y="2286000"/>
            <a:ext cx="1500120" cy="4986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4" descr=""/>
          <p:cNvPicPr/>
          <p:nvPr/>
        </p:nvPicPr>
        <p:blipFill>
          <a:blip r:embed="rId4"/>
          <a:stretch/>
        </p:blipFill>
        <p:spPr>
          <a:xfrm>
            <a:off x="6357960" y="3156120"/>
            <a:ext cx="2357280" cy="4982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4" descr=""/>
          <p:cNvPicPr/>
          <p:nvPr/>
        </p:nvPicPr>
        <p:blipFill>
          <a:blip r:embed="rId5"/>
          <a:stretch/>
        </p:blipFill>
        <p:spPr>
          <a:xfrm>
            <a:off x="324000" y="4033800"/>
            <a:ext cx="8604000" cy="4906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4" descr=""/>
          <p:cNvPicPr/>
          <p:nvPr/>
        </p:nvPicPr>
        <p:blipFill>
          <a:blip r:embed="rId6"/>
          <a:stretch/>
        </p:blipFill>
        <p:spPr>
          <a:xfrm>
            <a:off x="324000" y="4915080"/>
            <a:ext cx="860400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8T01:11:58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